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6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F57C-0A0C-4410-B8FD-92BB27A61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7DB0-4DF7-48A4-A913-A9BABB00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DBF2-CF91-4142-918E-78A9DE93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14EF-08CF-4C64-8C5E-96AA4284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6E92-C74F-4379-AA77-EDD521AA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D2DB-6C8D-4860-BE34-13469380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378A-1B2B-44AF-8B8E-B7CBF1D0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01B8-041D-4518-845C-BAE6D556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2663-2C65-4438-A7FA-E6537D41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E3D1-2E8C-44F7-9EF6-DF8353A3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D480-5D01-4616-9968-EC2C32E5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BA18-B6CC-436A-9EB5-ED2CE464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5326-D7DF-48A2-B9C4-F6DA0834B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eNe Laser Mode Swee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ollowing set of 10 slides illustrate how the longitudinal modes of a typical medium power HeNe laser sweep or cycle through the neon gain curve as the laser warms up and the cavity length increases due to thermal expan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vity Modes and Lasing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vity modes that fall within the region of the neon gain curve which is greater than the lasing threshold (net gain &gt; 1) will result laser oscillation and a lasing mode with an output power approximately proportional to its amplitude compared to the lasing thresh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re the longitudinal modes of the la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tal output power of the laser is equal to the sum of all the longitudinal m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 Swe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cavity length increases due to thermal expansion, the wavelengths of the cavity modes (and longitudinal modes) increase (moving to the lef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cavity mode passes the point on the left (longer wavelengths) where the gain becomes less than 1, a new mode will eventually appear on the right to replac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a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acent longitudinal modes in random polarized HeNe lasers are usually orthogonally polarized with respect to an orientation determined by the laser tube construction.  These are denote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itudinal modes in a linearly polarized HeNe laser will all have the same polarization orientation but similar amplitudes for the same size la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676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 slide show to view mode sweep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3526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ft and right arrows may be used to change mode sweep spee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2:42:28Z</dcterms:created>
  <dc:creator>Sam Goldwasser</dc:creator>
  <dc:description/>
  <dc:language>en-US</dc:language>
  <cp:lastModifiedBy>Sam Goldwasser</cp:lastModifiedBy>
  <dcterms:modified xsi:type="dcterms:W3CDTF">2009-08-05T15:20:47Z</dcterms:modified>
  <cp:revision>6</cp:revision>
  <dc:subject/>
  <dc:title>PowerPoint Presentation</dc:title>
</cp:coreProperties>
</file>