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088-C07C-4A57-9297-4E9CE6B6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EC3-9223-42A8-95A6-398500FD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2EEE0-AAA8-4FCA-8D9C-A238FB81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B73C4-8944-4A3D-B70A-8DF78993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4FBF2-194F-4C76-A594-6FB9A618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497E8-7ACD-443E-83F4-36393D25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BF2F3-D8C4-41FC-A473-36A3245B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7E54B-4155-4E8A-92E3-927024C7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164F0-32A4-4B52-B996-3724B37D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71A06-2310-4FE8-A3D6-5F413A25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1B8F9-0C74-478B-860A-3C924DA7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54A0E-CC26-43E2-8F1D-0F9F9885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3E3-7868-4972-BB95-01238F8C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EAC19-75F0-4E8C-A372-C437BC45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17627-5888-4D04-9136-271774C2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CC936-CDEE-4F61-9126-F980A34A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F63FB-2EDD-4A15-8802-32F7F4DE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E3CC4-2A55-4530-ACEF-E75BCAEE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2AB04-EEF8-4F10-AD50-2276B62D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A4977-38E6-409C-B236-A060209A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82464-034C-46F9-88EF-3CD3A5CA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2340F-4501-4D2A-9D3A-B72186C3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D49C3-D55C-455E-A18C-923A8D18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CE6-5540-4EE3-9205-C687E044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0F339-960E-489A-B81A-5B60368C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75CE9-F7EA-4F30-9DBE-4BBFBFE4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4E47F-CA41-4CF5-97CC-A132A658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C7111-622C-4086-8FDD-DBBF2C23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FE5DE-71A1-4EB0-B769-D09FC64C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18069-E30F-4CF0-B327-98EA21B4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E53CF-1AF9-45B2-BAF1-826584E9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E8F84-0FF5-4517-B5B4-C093E434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D7EAF-23BC-47A2-ABD5-426E279D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79A21-14BB-4D55-9B14-6D59E9B6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EF52-D084-44AC-98F4-EF9B6EC3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95211-7D4E-4E13-9AC0-496DD594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3C21B-14AD-49CB-A614-8E5425AA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94FC7-8266-42C1-ADC4-F944B6B9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C0212-348A-40EE-AFF8-26A6E87D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BE55E-5777-42D0-8B90-4509901F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E27CD-0659-44E4-855C-5C46A14B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3E93F-AB37-4D0F-A69E-2FB0DD1F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CACE3-FB1C-4196-834E-9D0D1B7D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279F5-1BF4-457A-A9A2-15A6B1F7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7FF25-BEF7-4BB9-B6B1-CA8FE26C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8641-6EAC-4A61-881A-DFE8BC2E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98165-47A3-4FBC-904E-2B6CB2AB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6D857-09B7-493E-9128-F6FE5276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3294D-457F-403C-8F86-DAE3635A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49940-F4BB-40AD-BB9B-92388262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D5C31-0BA3-4A07-9546-729167E0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5666-9EC9-4657-82F1-ADE549B7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8EA9-B394-4297-9F85-1B3B711C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9CC4-2643-4441-9CC2-14688475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3BC9-05AB-4E78-A747-637B7E78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D93B-DF23-422C-80AA-B13147AC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9E8-C7AB-4C92-A46E-D55445E6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2C9D-44A8-46B9-A959-0F0101C6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31D7-0945-4742-8A83-C8B2681F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A585-CB17-4D7F-88ED-E6D5A729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4211-ACF3-4ADC-83E6-F95E14D3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EC37-8A93-4A15-8DA4-00070545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D135-7304-4294-B51C-6A981279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4865D-D6BA-4C93-9914-36B4C2EA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5C01C-AC1D-4B43-B9F2-3A7CC585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A4A46-D9A0-4A4D-B409-263BF5C4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CFC1D-E1FE-47CD-A916-6A6A4A65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817-DCB6-4C69-AA73-7ED433E5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71C9A-D5BE-4908-873A-325B5E35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B8E3C-5EAB-4918-A7AE-8B81A63C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D981-2B3A-4C41-8B18-B2DA89A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A6D1C-2566-40C9-9302-88440EC0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E72F1-9F94-4359-BA8C-8E687CBC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D5A3-CAFB-462C-8643-601DC138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4A56B-BE10-442A-8FDD-CEF60A81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70466-85B1-4555-86B1-BDDB2F62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3756F-BCCA-4459-B162-E723D8D5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FFE10-D906-48CD-ACF0-E5595FD6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065-3BDA-4F53-A23B-A0537182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812E1-1933-4D64-A8B3-DEB630C3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35B2E-98F0-4E5E-BA29-9BD9D76A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7781B-F1F6-43C7-BFE0-97DC5C18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EF00A-F866-4C56-8B9B-D57FE86B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73461-D438-4F0D-B966-6C9958F0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AFD6-94CA-4F6B-8A00-1C509BE4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2A31D-9380-43BE-8B84-8AF923D0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84818-41CE-4E79-94DF-BDCF30B8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61263-FA4A-4A76-A591-387716CF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74BD9-D908-4124-A52A-773343B7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3EC-3C68-4EB3-8900-90FE568A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6957C-947D-47A4-8886-29692BD1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F95E5-8C3E-46FC-A0B5-C4FCA635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00F8C-D0B7-4347-BE2F-3D903B66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C0EBC-6839-4C54-8CA2-CF5C65D0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6DA29-30E8-4A43-8F0C-A7EA6E92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F2E97-1496-49A8-946A-BA3A41E8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46A28-4CCD-4AC6-8991-FA6DD3DE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3C356-4EDF-4EF9-8DC6-E0F6143B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A29F4-FCAD-4CBF-8C80-F0863A0E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59BEF-A28F-4FB9-8C36-8C84D412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6AA-A8B7-4AC2-948C-19F16576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F1772-92DF-4C9D-92A9-A9FA1848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3E0FE-4CE4-40A7-A7CD-B6EFFF85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187A0-61C2-446A-BA1A-DC4F3F3C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BD85E-8227-4B14-B023-E49E33B1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C2847-F629-4D7E-95C5-0336CCFD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E1FD1-D62A-4482-9FD1-1A93A717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B2480-E4EA-478B-9A91-91C31893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1B06D-BB9E-4BBC-872B-94C9892B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C0713-4C0F-48CE-8859-E920D30E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F6386-BD01-4326-A3A0-2C570C08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F0D-1119-40A5-8C96-73F1EB26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D68E2-352D-417B-93B4-F91A587C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0EA89-B31B-4B34-818A-E00AAFD4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F7A6E-3FD9-48CF-AC98-06CA700A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76C73-30BA-4EF5-B56C-4504E8CB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D166E-1F8C-43DF-A345-4A0F2FE3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3AD6F-7F7A-4B73-8C01-A78E25BE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0A146-38E3-41A7-86C7-01C2229A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6A04F-7D0D-48B2-8FC6-214EC656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F07E6-6FEF-4075-85A8-E0A369E9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576AF-9B55-4BC1-B268-FADF6990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516-41CA-4DFF-BD6B-BB93184E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19560-B5B0-4C0E-8A00-F91B5020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1FFD6-349E-4478-B38D-66F0C340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0980C-0D74-4F16-B93A-BBE88355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8E913-45F0-4B01-8E06-2992E31E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DB097-BDE9-4BAE-AE39-1435FF2A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1E379-5422-4186-8D1A-863AABE0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7A0E7-F181-4C45-92F0-4831CC44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08586-8B03-4F12-B7CF-E6DD42FD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C77E0-943E-4577-963F-AB94FB72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79FB2-D006-4C40-B76C-EED9609F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229-BD39-413E-A14D-7B3142AA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08F5E-2BD8-4127-8D0C-D14E27EC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BA749-B4D2-4A90-BFCF-8691D062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3DEC8-9540-4A4C-B45C-E93C47A1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624FC-6FD9-4132-A89B-4BB750D4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3F29D-6E7C-4E95-9BC0-C647A64C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5E7BB-638D-4A53-9916-73ADD7A9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81686-D064-40BB-B95F-AA8D8439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A4D41-7AE2-49FF-81B3-9D69D50D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F72FC-D62B-4ECD-A4F7-2F8A4A77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4D1A3-7C0E-4072-B070-C6D119CD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6532-97E1-47A3-8D08-D1FD33970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3109-D74D-4952-A54A-3BB3B9594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FDB2-D951-4C9B-BD42-F70069A8D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CFCD-322C-457F-81D4-92454179B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E068-2CC3-4A87-A9DF-96272D4D7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9881-30C4-4488-B6BD-F71785EEC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2149-B33A-4E2D-9A34-BA2460079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0A47-03EF-4431-8664-EDAF055AD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5F3D-54AC-4AFB-9F85-5F99C5D2B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EAA7-7CD0-4693-8154-7009B3871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4211-C6C5-4D39-B6DE-E1D550FDF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316A-F338-4064-A6AE-2119D8A41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e Laser Mode Swe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838080" y="2286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et of 10 slides illustrate how the longitudinal modes of a typical 25-35 mW HeNe laser sweep or cycle through the neon gain curve as the laser warms up and the cavity length increases due to thermal expan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Box 4"/>
          <p:cNvSpPr/>
          <p:nvPr/>
        </p:nvSpPr>
        <p:spPr>
          <a:xfrm>
            <a:off x="914400" y="1371600"/>
            <a:ext cx="7696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 mm (~32 Inch) Cavity Lengt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5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's Laser FAQ (http://www.repairfaq.org/sam/lasersam.htm) Copyright © 1994-2010, Samuel M. Goldwasser,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5" descr="C:\LASERS\DIAGRAMS\henemdl4.bmp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3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3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7" descr="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9" descr="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vity Modes and Lasing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y modes that fall within the region of the neon gain curve which is greater than the lasing threshold (net gain &gt; 1) will result laser oscillation and a lasing mode with an output power approximately proportional to its amplitude compared to the lasing thres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the longitudinal modes of the la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output power of the laser is equal to the sum of all the longitudinal m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 Sw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cavity length increases due to thermal expansion, the wavelengths of the cavity modes (and longitudinal modes) increase (moving to the lef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cavity mode passes the point on the left (longer wavelengths) where the gain becomes less than 1, a new mode will eventually appear on the right to replac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a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t longitudinal modes in random polarized HeNe lasers are usually orthogonally polarized with respect to an orientation determined by the laser tube construction.  These are denot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modes in a linearly polarized HeNe laser will all have the same polarization orientation but similar amplitudes for the same size la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 slide show to view mode sweep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028"/>
          <p:cNvSpPr/>
          <p:nvPr/>
        </p:nvSpPr>
        <p:spPr>
          <a:xfrm>
            <a:off x="838080" y="33526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 and right arrows may be used to change mode sweep spee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5" descr="C:\LASERS\DIAGRAMS\henemdl0.bmp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6" descr="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5" descr="C:\LASERS\DIAGRAMS\henemdl2.bmp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C:\LASERS\DIAGRAMS\henemdl3.bmp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42:28Z</dcterms:created>
  <dc:creator>Sam Goldwasser</dc:creator>
  <dc:description/>
  <dc:language>en-US</dc:language>
  <cp:lastModifiedBy>sam</cp:lastModifiedBy>
  <dcterms:modified xsi:type="dcterms:W3CDTF">2010-07-06T00:24:07Z</dcterms:modified>
  <cp:revision>19</cp:revision>
  <dc:subject/>
  <dc:title>PowerPoint Presentation</dc:title>
</cp:coreProperties>
</file>