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CD9-63DB-404B-A56A-0175657F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9DC-328A-4CC8-B190-5B1FE386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CEEEE-2BC3-4966-A565-168053BB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3AA35-3054-4C00-B564-3E7A7CF5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28334-39BB-45E2-AEE5-7B4AC813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B57D7-237F-41D8-89A7-0CE4D07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D4811-8ED9-497D-A547-F6F8CB7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0EDF8-0824-47C6-9D7A-E81E251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77585-291A-405B-9936-78268F6F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9F672-57C1-4B46-87D6-774F4C93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549D8-6BC8-4576-9BFF-66744C1E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43D98-C41F-48DA-BDFE-61ED52EB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B5D-79CE-4D66-BD63-305142C1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69490-5E07-4AA5-A316-A779BD91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F2AB9-3D47-468E-AA9E-22298EB7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03507-1FA3-483B-BB50-2CCC4633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666AB-BEB6-4F7D-A881-F5798F5D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5AE57-20B4-4535-ACE2-270F45C8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02724-DB29-4B6D-91C3-0657F394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078FD-CCEF-4855-9EB1-E5A187EA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CDDAE-8D76-4FEE-A8A9-1B35597C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7407A-A0EC-4306-BEE7-289143C3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DBBDF-0BAE-489C-B7B1-D463E59A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1B1-C1FD-4AC1-9F1C-1D789AB3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A6C96-9ECB-413E-AE91-A54747F1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9B30-8E63-4C40-994A-4504A6B9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EA02-2E83-4BAD-A29F-44863AE7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A5F2-E033-418E-B24B-BAFD8805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D62F-1CCE-437C-95B2-2B9839EE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5E01-9CA3-4629-8FFE-962822E2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72B7-73F0-4FA0-AC39-85766DF6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A391-2530-4991-8A8A-D9EFE76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092-9BEE-4CAA-8439-6DA2B55B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9FC0-C3D2-401A-BA1C-D9324834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15F4-D12B-4108-A9C6-711DDB2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34A0-7651-4BD1-B6D1-5BF189E4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1123-127C-45D6-A178-9807435C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7ACC-45D2-4A35-A201-D526EB22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7DFC-F0C9-4AC1-8C50-857E406F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90C8-BBB0-4CFD-AE9D-64E86DB8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D7B8-0FC6-40C1-B700-78F92AA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C4F3E-DEA0-44DA-B532-AAF4A549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0C90-F155-4D11-AB9D-05E72B19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2A6-3433-4268-A93B-611E1FB0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04F9-712F-4C3B-AE43-98F0A55A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8F67-FA6C-458F-BCDD-DE6C906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2EBB-2451-4332-BC7C-636AC9EE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3632-BE34-408E-AEE7-40FE58D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8A41-717E-4DF4-8EAA-15E3463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2E65-50D2-4BF7-A3F6-8BA55E41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A8D7-94EC-4760-95D0-21AE78DE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27FD-0C4E-4AB7-B83B-A614520F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0BA5-2EAE-4EA7-A6D3-89FB5FA2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188D-56B2-486C-B756-12A86767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024-8BBF-4D8A-BFE7-237CBAA4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04B85-C0FD-4FEA-94AC-F60A7D5A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F8C0E-E231-4B45-8A2D-FF5D5638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9A0F3-32CE-4BBF-BF97-4BD6B522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0D5D1-0102-460E-93E5-AE62AA83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0A8F-C991-4E4E-8757-4D1440A3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4EDE1-7C7C-46E3-86BF-8DB5F612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FCB6-60C8-4FF0-B694-ED998F33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4AAE-D6CA-4499-B1C0-59846072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36115-5F0E-4130-B383-822B5B12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DC7A-C707-4796-A664-A1A07C02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CEA-E78B-46DE-9B8B-4C3562CB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4E97B-7383-4E5F-ABC9-302A2283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42FD-42BD-43BE-B192-7BB39E5F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1E61-1CA8-44DD-80A9-A1936FF8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74EF-E088-440B-BB02-D7541766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763A6-1041-4DF2-8F01-EE97239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5EFA2-0324-40F5-9636-FBBC009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538B5-025F-4462-82C4-AFD2B91E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B797-B0F6-42FC-AEDB-0C87838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F732B-8F2A-49F9-883C-C7D4E74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41E01-45DC-407A-9473-3E32E74B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501-911B-4E46-AD8D-06EF45DB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29595-5EB8-4A02-AB2D-9583FDCB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3FD86-4303-4623-A00B-AF985E6C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792B-5645-48A2-9765-EA79AF5C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8D272-F359-4270-91E4-734DFAFE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0AA89-557C-402E-B1D5-207B3127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BD10-F9D5-410F-A52D-93E37186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B3F5F-4927-49AF-9BD5-0968CE59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3AE08-5027-4A50-82C3-1401B23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72BC9-504C-43E6-833F-01F7BE1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C4ECD-780F-453D-BD7D-28401098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15F-69D0-4DF2-B1D4-394796DB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1137D-3734-46E4-BAC1-380B5F4C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E04F3-B542-4704-B11D-0AF5DA72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A1849-64DD-4E57-AB6C-1C097F9F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05079-0E0D-4C17-B460-AB2BCBE2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B5B80-0FEF-4B66-9F95-6F336270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6F39E-D404-4C08-935F-66207D2D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7D81-BB0B-4AA9-A135-746B91C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CD33-54A0-474C-B5D8-7C1273A1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48E7-5402-429A-A66C-876C89C3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9450-EAE3-4D0D-A94F-44B62BD0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447-364A-4F9D-B02F-A0B19E6B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69287-3590-4C31-B285-839DC9E0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807F0-5FAA-42BE-897D-4C89B986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85F8-0FBE-443A-BDC0-0AC2AD63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824A0-0EF8-46BE-B782-026D8495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0AE6-36CE-4DEF-A257-8E993D26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0CC34-6BDA-46D8-A0E9-51B8D769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769F4-EE3E-4404-BCF2-061A422C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BF64B-1F75-4573-B95A-17DC7CBB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F5F9E-B36A-47D7-B797-376638BD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6EC4E-6988-4487-B74E-4123059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DDC-7A8E-4E22-9D58-74B49F08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3632-7F52-43A6-97F8-4A61A12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13F31-0DC6-4B44-8745-1C4C173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6E766-5AE2-441C-86EA-3AFB122D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5D28C-DEAB-4F26-A636-6D50968D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AA43D-9918-448E-9C13-5810C78A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971FD-07C6-44F2-9561-B50785DD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47204-4E4E-47A8-B6A2-E482E1FD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32C65-E44C-4031-AF2F-007A1A7B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EC6D3-A620-46BB-9EA5-F8974E81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5B7A8-4369-4DF6-96BA-E8225CEB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06E8-BCFC-4C83-883F-F281560D0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AFFE-37F3-437A-9948-662AC5021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094-6228-47F3-813C-C71EA65964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FF6-AD9F-4650-B19F-239505C30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192A-EAAF-4537-B558-F3D862EBAE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B189-EFA8-4539-AAFA-D39A8FEDB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A92C-7C3B-4848-A9AE-5339BC5226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8BDB-391B-4E42-BEAA-9CAC66948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75D3-B5BF-47F9-9492-CE5F437FB2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9CAB-2C46-4EF6-9AED-3CB6B8047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A5D0-B363-43D2-AA5E-1A9FA38582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C47F-3CE9-44FD-AB61-E913732BC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C0FB-9F5A-411D-8882-353056363C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D8DE-9168-4920-B453-61284324B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27AF-198D-4F77-83FA-881C48854C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6BAB-3D01-4925-963F-F53849C7E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01B1-8E6B-4D74-B1D8-2379067098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B84D-E861-4900-B8F9-EC71F0123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7D22-EDB9-4C0B-9EAC-B55C010981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4C46-5F28-420B-942E-FFEF17E1E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e Laser Mode Swee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838080" y="2286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et of 30 slides illustrate how the longitudinal modes of a typical 1-1.5 mW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914400" y="1371600"/>
            <a:ext cx="769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 mm (~5.5 Inch) Cavity Lengt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C:\LASERS\DIAGRAMS\henemss4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" descr="C:\LASERS\DIAGRAMS\henemss5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C:\LASERS\DIAGRAMS\henemss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:\LASERS\DIAGRAMS\henemss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C:\LASERS\DIAGRAMS\henemss8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C:\LASERS\DIAGRAMS\henemss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6" descr="C:\LASERS\DIAGRAMS\henemss10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6" descr="C:\LASERS\DIAGRAMS\henemss1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C:\LASERS\DIAGRAMS\henemss12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C:\LASERS\DIAGRAMS\henemss13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C:\LASERS\DIAGRAMS\henemss14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6" descr="C:\LASERS\DIAGRAMS\henemss15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C:\LASERS\DIAGRAMS\henemss1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C:\LASERS\DIAGRAMS\henemss1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C:\LASERS\DIAGRAMS\henemss18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1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5" descr="C:\LASERS\DIAGRAMS\henemss1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C:\LASERS\DIAGRAMS\henemss20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6" descr="C:\LASERS\DIAGRAMS\henemss2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C:\LASERS\DIAGRAMS\henemss22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C:\LASERS\DIAGRAMS\henemss23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is short HeNe laser, at most 2 modes are oscillating at any given time, and ofter there is only a single mod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C:\LASERS\DIAGRAMS\henemss24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6" descr="C:\LASERS\DIAGRAMS\henemss25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6" descr="C:\LASERS\DIAGRAMS\henemss2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C:\LASERS\DIAGRAMS\henemss2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C:\LASERS\DIAGRAMS\henemss28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6" descr="C:\LASERS\DIAGRAMS\henemss2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1028"/>
          <p:cNvSpPr/>
          <p:nvPr/>
        </p:nvSpPr>
        <p:spPr>
          <a:xfrm>
            <a:off x="838080" y="29718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Left and right arrows may be used to change mode sweep speed or to simulate the feedback control of a stabilized HeNe laser by centering one mode on the neon gain curve or by balancing two modes on either side of the neon gain cur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C:\LASERS\DIAGRAMS\henemss0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C:\LASERS\DIAGRAMS\henemss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C:\LASERS\DIAGRAMS\henemss2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6" descr="C:\LASERS\DIAGRAMS\henemss3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7:44:55Z</dcterms:created>
  <dc:creator>sam</dc:creator>
  <dc:description/>
  <dc:language>en-US</dc:language>
  <cp:lastModifiedBy>sam</cp:lastModifiedBy>
  <dcterms:modified xsi:type="dcterms:W3CDTF">2010-07-06T00:33:20Z</dcterms:modified>
  <cp:revision>32</cp:revision>
  <dc:subject/>
  <dc:title>Slide 1</dc:title>
</cp:coreProperties>
</file>