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C620-5190-4075-8220-B1625EC60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34B6-168E-4E8B-A3FB-CCC650BBE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EB897-94E4-4FD9-AF6F-B9EA6D475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EA58B-84C5-42E5-9B47-0AA7E9C10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DD553-3A3C-45D4-B05E-8E1CCA9EF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E2016-622E-4B21-BEE7-9566DC7BF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DB1DB-674D-4F0F-AEC9-4DC1B0335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8271F-B2D7-4D50-BD3D-1BF16C166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D36B2-BA82-43E7-B4D1-3CA0C650F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B689F-3CB0-4AB8-8192-DC3A0AA70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11D47-0FD2-42AA-875C-D1A5B9315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E7B7D-C6C7-43EC-A08C-01944D7E0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77BFA-46E2-4AA4-AA2C-1234397B8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6A3F2-0A27-4C97-879C-9DD4C13F2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8C12-55F1-4D16-BB3C-6DA843884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FE1B7-858C-49CC-B0F2-52EECB4E6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DEDE7-DA56-4B71-A084-4251C111D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BD758-DBF8-4B15-A0AA-481217BCB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F41CB-B9CE-44EE-A698-CC9A8A0E4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A1B6-D9A8-4FE6-B826-8D22B125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1CF14-DC2F-4C2C-960C-8D1437DF6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FBD48-0AB0-4622-BC7D-4B31DAC0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14F01-B2E2-4E5B-B4F8-52757AF1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D8A0-6939-4340-B72D-39E9E996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8E159-3229-4B00-82C0-B2C3EC8F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EB60-7D86-4EEB-8699-FCFB22831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1BFD-1E4C-4B48-85FB-C8F7ED853FB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999A-6757-4D46-936E-894631831C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C327-0078-470A-A4BA-ED14AE8E618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2133720" y="6356520"/>
            <a:ext cx="48765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D0E7-8306-41E6-8D24-3AC9EF292D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380880" y="837720"/>
            <a:ext cx="7848720" cy="5288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mission of a</a:t>
            </a:r>
            <a:endParaRPr b="0" lang="en-US" sz="4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abry-Perot Resonator</a:t>
            </a:r>
            <a:endParaRPr b="0" lang="en-US" sz="4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is slideshow demonstrates how the transmission through a plane-plane-plane Fabry-Perot resonator, as a function of optical frequency, is affected by its fines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tart the slideshow and use the left and right arrow keys to select the finesse, shown in the upper right corner of each slide.  The peaks are separated in optical frequency by the Free Spectral Range (FSR) of the resonator , c/2L (where c is the speed of light and L is the distance between mirrors).</a:t>
            </a:r>
            <a:endParaRPr b="0" lang="en-US" sz="2400" spc="-1" strike="noStrike">
              <a:solidFill>
                <a:srgbClr val="000000"/>
              </a:solidFill>
              <a:latin typeface="Calibri"/>
            </a:endParaRPr>
          </a:p>
        </p:txBody>
      </p:sp>
      <p:sp>
        <p:nvSpPr>
          <p:cNvPr id="9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882A-F661-4F7E-888F-81D4691F07F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2" name="Footer Placeholder 5"/>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7" name="Content Placeholder 4" descr="f500.bmp"/>
          <p:cNvPicPr/>
          <p:nvPr/>
        </p:nvPicPr>
        <p:blipFill>
          <a:blip r:embed="rId1"/>
          <a:stretch/>
        </p:blipFill>
        <p:spPr>
          <a:xfrm>
            <a:off x="0" y="0"/>
            <a:ext cx="9144000" cy="6392880"/>
          </a:xfrm>
          <a:prstGeom prst="rect">
            <a:avLst/>
          </a:prstGeom>
          <a:ln w="0">
            <a:noFill/>
          </a:ln>
        </p:spPr>
      </p:pic>
      <p:sp>
        <p:nvSpPr>
          <p:cNvPr id="128"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2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F25A-7B5F-4E3E-BD86-50A52A28F6D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Content Placeholder 4" descr="f1000.bmp"/>
          <p:cNvPicPr/>
          <p:nvPr/>
        </p:nvPicPr>
        <p:blipFill>
          <a:blip r:embed="rId1"/>
          <a:stretch/>
        </p:blipFill>
        <p:spPr>
          <a:xfrm>
            <a:off x="0" y="0"/>
            <a:ext cx="9144000" cy="6392880"/>
          </a:xfrm>
          <a:prstGeom prst="rect">
            <a:avLst/>
          </a:prstGeom>
          <a:ln w="0">
            <a:noFill/>
          </a:ln>
        </p:spPr>
      </p:pic>
      <p:sp>
        <p:nvSpPr>
          <p:cNvPr id="132"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3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EF14-D7E8-42E7-8078-BEB66BC3E12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95" name="Picture 4" descr="f1.bmp"/>
          <p:cNvPicPr/>
          <p:nvPr/>
        </p:nvPicPr>
        <p:blipFill>
          <a:blip r:embed="rId1"/>
          <a:stretch/>
        </p:blipFill>
        <p:spPr>
          <a:xfrm>
            <a:off x="0" y="0"/>
            <a:ext cx="9144000" cy="6392880"/>
          </a:xfrm>
          <a:prstGeom prst="rect">
            <a:avLst/>
          </a:prstGeom>
          <a:ln w="0">
            <a:noFill/>
          </a:ln>
        </p:spPr>
      </p:pic>
      <p:sp>
        <p:nvSpPr>
          <p:cNvPr id="96" name="Footer Placeholder 4"/>
          <p:cNvSpPr/>
          <p:nvPr/>
        </p:nvSpPr>
        <p:spPr>
          <a:xfrm>
            <a:off x="1981080" y="635652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9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B4C4-A0B3-4448-8637-8B6A9BAC077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Content Placeholder 4" descr="f2.bmp"/>
          <p:cNvPicPr/>
          <p:nvPr/>
        </p:nvPicPr>
        <p:blipFill>
          <a:blip r:embed="rId1"/>
          <a:stretch/>
        </p:blipFill>
        <p:spPr>
          <a:xfrm>
            <a:off x="0" y="0"/>
            <a:ext cx="9144000" cy="6392880"/>
          </a:xfrm>
          <a:prstGeom prst="rect">
            <a:avLst/>
          </a:prstGeom>
          <a:ln w="0">
            <a:noFill/>
          </a:ln>
        </p:spPr>
      </p:pic>
      <p:sp>
        <p:nvSpPr>
          <p:cNvPr id="100"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0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DEB5-2C16-495E-9A62-1324454F35F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Content Placeholder 4" descr="f5.bmp"/>
          <p:cNvPicPr/>
          <p:nvPr/>
        </p:nvPicPr>
        <p:blipFill>
          <a:blip r:embed="rId1"/>
          <a:stretch/>
        </p:blipFill>
        <p:spPr>
          <a:xfrm>
            <a:off x="0" y="0"/>
            <a:ext cx="9144000" cy="6392880"/>
          </a:xfrm>
          <a:prstGeom prst="rect">
            <a:avLst/>
          </a:prstGeom>
          <a:ln w="0">
            <a:noFill/>
          </a:ln>
        </p:spPr>
      </p:pic>
      <p:sp>
        <p:nvSpPr>
          <p:cNvPr id="104"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0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A0A4-0F39-4313-B373-80F96BC14CB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Content Placeholder 4" descr="f10.bmp"/>
          <p:cNvPicPr/>
          <p:nvPr/>
        </p:nvPicPr>
        <p:blipFill>
          <a:blip r:embed="rId1"/>
          <a:stretch/>
        </p:blipFill>
        <p:spPr>
          <a:xfrm>
            <a:off x="0" y="0"/>
            <a:ext cx="9144000" cy="6392880"/>
          </a:xfrm>
          <a:prstGeom prst="rect">
            <a:avLst/>
          </a:prstGeom>
          <a:ln w="0">
            <a:noFill/>
          </a:ln>
        </p:spPr>
      </p:pic>
      <p:sp>
        <p:nvSpPr>
          <p:cNvPr id="108"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0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3EF0-B097-489A-B990-233447D31CA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Content Placeholder 4" descr="f20.bmp"/>
          <p:cNvPicPr/>
          <p:nvPr/>
        </p:nvPicPr>
        <p:blipFill>
          <a:blip r:embed="rId1"/>
          <a:stretch/>
        </p:blipFill>
        <p:spPr>
          <a:xfrm>
            <a:off x="0" y="0"/>
            <a:ext cx="9144000" cy="6392880"/>
          </a:xfrm>
          <a:prstGeom prst="rect">
            <a:avLst/>
          </a:prstGeom>
          <a:ln w="0">
            <a:noFill/>
          </a:ln>
        </p:spPr>
      </p:pic>
      <p:sp>
        <p:nvSpPr>
          <p:cNvPr id="112"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1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9F7B-3E11-466B-930C-0DAE60A9326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5" name="Content Placeholder 4" descr="f50.bmp"/>
          <p:cNvPicPr/>
          <p:nvPr/>
        </p:nvPicPr>
        <p:blipFill>
          <a:blip r:embed="rId1"/>
          <a:stretch/>
        </p:blipFill>
        <p:spPr>
          <a:xfrm>
            <a:off x="0" y="0"/>
            <a:ext cx="9144000" cy="6392880"/>
          </a:xfrm>
          <a:prstGeom prst="rect">
            <a:avLst/>
          </a:prstGeom>
          <a:ln w="0">
            <a:noFill/>
          </a:ln>
        </p:spPr>
      </p:pic>
      <p:sp>
        <p:nvSpPr>
          <p:cNvPr id="116"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1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2735-189B-45D4-99AF-5355610B182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9" name="Content Placeholder 4" descr="f100.bmp"/>
          <p:cNvPicPr/>
          <p:nvPr/>
        </p:nvPicPr>
        <p:blipFill>
          <a:blip r:embed="rId1"/>
          <a:stretch/>
        </p:blipFill>
        <p:spPr>
          <a:xfrm>
            <a:off x="0" y="0"/>
            <a:ext cx="9144000" cy="6392880"/>
          </a:xfrm>
          <a:prstGeom prst="rect">
            <a:avLst/>
          </a:prstGeom>
          <a:ln w="0">
            <a:noFill/>
          </a:ln>
        </p:spPr>
      </p:pic>
      <p:sp>
        <p:nvSpPr>
          <p:cNvPr id="120"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2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909D-7DF0-46F9-BF77-AAFB65CBFE0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3" name="Content Placeholder 5" descr="f200.bmp"/>
          <p:cNvPicPr/>
          <p:nvPr/>
        </p:nvPicPr>
        <p:blipFill>
          <a:blip r:embed="rId1"/>
          <a:stretch/>
        </p:blipFill>
        <p:spPr>
          <a:xfrm>
            <a:off x="0" y="0"/>
            <a:ext cx="9144000" cy="6392880"/>
          </a:xfrm>
          <a:prstGeom prst="rect">
            <a:avLst/>
          </a:prstGeom>
          <a:ln w="0">
            <a:noFill/>
          </a:ln>
        </p:spPr>
      </p:pic>
      <p:sp>
        <p:nvSpPr>
          <p:cNvPr id="124"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2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41C4-59BC-4D41-8565-92979243DB1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18:02:31Z</dcterms:created>
  <dc:creator>sam</dc:creator>
  <dc:description/>
  <dc:language>en-US</dc:language>
  <cp:lastModifiedBy>sam</cp:lastModifiedBy>
  <dcterms:modified xsi:type="dcterms:W3CDTF">2010-05-07T21:28:37Z</dcterms:modified>
  <cp:revision>18</cp:revision>
  <dc:subject/>
  <dc:title>Slide 1</dc:title>
</cp:coreProperties>
</file>