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69C7-8AF6-4FAD-BA19-AE729A59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EE99-3D19-46A5-84CC-E00B9BAB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3E403-199A-4515-BC46-9C2FDE50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3721B-7510-4262-B358-8C4C56CC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2D23C-550A-4896-A569-AA190420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B11ED-F5D1-4867-8FA0-557A7D2D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AB5FB-FE2A-4A7F-BF57-BFC21E9B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EA939-F2CF-4E43-9DC3-FCF6DE04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3E022-CA80-434C-AF71-513B2697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ED225-6AAC-4394-930B-AC27C8FF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9C2AF-3BCE-4D62-9515-5CFB6BE4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F3B6C-A053-40A8-9042-4684B0B5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630-E407-4F89-9138-4D4B9D57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BF923-F441-4E3A-8FD7-700725CB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43878-A0BF-4A72-88A9-C4FD0166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20ED3-438C-49CB-A9EC-B281BC90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81498-C1B2-4E54-BD59-657575D7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AE2C0-A4E9-4136-B4B6-CD9734F3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229FC-9436-4B51-8344-11DE775A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0DFC3-BE08-491F-8FE5-FF063118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D5800-1F38-418C-99B9-8287DFE6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F4E0E-DC9D-46E0-9E7C-39C61692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1C0F3-6107-495D-A3F5-A66BD557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FD0-85BF-4FF9-9563-7C73C606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EF33F-4D69-418A-820B-5A6552D7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94162-06C1-42E3-B029-D05A93F8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A6D55-13B7-45DE-AEF5-F8037BAB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649B7-A11E-4D89-A936-01EE913F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CD6BA-0935-4A40-BCBF-D3F1A7B7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42721-CA8E-478D-9D94-1960C6F2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F5ACE-1FE0-4267-B380-427AE2F1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BDCD6-D047-47CA-B6B4-EF5FD6D0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B0D42-5690-4E65-88FE-D6FD1200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FFE7A-FF6A-4E13-B3F2-DC119941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9775-FD5E-4472-B701-52DFD489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423FA-E4A7-4A4B-A8F0-16CA7C0D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0BC14-B1AF-40D5-ACFA-BE879D31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A9B1D-1442-4925-B995-21AAC0E8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539DB-DDA4-4400-9592-03D37741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48B93-27B3-46F2-B262-1DBA7B31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2FB29-EE39-474B-92BE-64E0677F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D3C70-628F-4448-A9DE-D1987CE3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1585A-C35E-4D8F-A2F6-5117A8A1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37555-C530-421C-81E0-C9C48CA2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543A0-57FD-4A11-8D20-2F1D42D2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6B34-04E6-424F-8037-5A97CAA7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1B825-07D0-4AA4-A61D-48E563DA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657DA-7D2F-47F7-B5EF-736379B7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85DE5-240E-4B64-A6B7-5EC82FA2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34339-3929-4BCC-B1BB-09A5D5BE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CD6CC-1CBD-4BF3-98E2-8FD8CB11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F722-57D5-4E2F-9E39-61B2FF66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074F-6129-4618-89A0-776E33F7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8963-D1D8-44E9-9EB6-DAF65543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7D67-20B0-4241-8555-94E8ED9B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2C5E-9F05-4F74-B305-C89BF51B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CB3-ED64-42F9-9B9C-ADDC168A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DCA8-32B3-4863-A7FB-59F3DE3A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227D-4EE6-4813-B7FE-D594B0F6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F78D-174A-44DA-AF6A-54B8A200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CB20-1D15-48DE-BBBD-6F6C50B0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FD35-049C-4173-8743-5FFFA8F2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D1D55-D050-443E-8F6B-17A21CD5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7EA38-6CA6-488A-AE78-EA5B1D8E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1C6C8-4115-44BE-AAF2-57F0811B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36444-067B-4CAF-95D9-846DBD15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5B5E2-E284-4789-90AB-DE83BE0D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BF4A-E3D3-4C99-90D2-739D9D85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B8089-5965-4DF3-BEC4-A26B3164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73387-1B6B-4025-B768-F91E843C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275C7-A954-4E13-B155-23F95914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22586-D234-4C1B-BEB2-52759F58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A0E0E-F45E-439E-BF54-3B5EBD3A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399F8-73EA-41C0-B2B7-AF5375DC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5166E-B36E-4914-B09A-0C8FEF80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27BDC-496F-4058-AD14-4A8230CC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E45C0-01CF-4436-B3D3-1282D04A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F5985-BBF2-45E1-BBEB-756693D4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21E-2785-4EAE-AC1C-07FB3011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93313-B427-4331-BA5F-6D575F1C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6DA64-7184-40B0-9B4A-13999E63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9CD8C-B594-4812-B0D6-5E1E7DDE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236C8-665A-43B2-8D91-3D8B18EB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33F5C-E41E-4EAF-B3A4-B918F856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9AD9A-AEC6-41E7-92AF-90DDE941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E2C9D-BDAE-4A14-B991-6002FDFC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39AB4-A8BE-4859-BF80-E3745A89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C1F62-F6A1-4776-85E9-E49940EA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FB1D9-BADB-47CD-B97E-022DF9EF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887-42FC-4A14-932F-2DE8ECC6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EACE8-BB58-430D-A882-1993F552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EE796-3ECD-4959-A500-19D4CC64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5E4B3-0673-40C5-B36E-81C1D444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3F26C-5722-4E08-AB10-40267DAC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CDD23-E9E7-43E9-9E4A-F609ABA2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20EE8-E65A-4758-8A75-25646069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A82D1-6787-4377-AB5E-8B012F30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3A975-9F4A-4505-A738-F01EE875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99363-E26D-45B2-A120-F2FC46FE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D16D3-B942-4272-935A-202FBD78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A8B2-607E-4CAD-AAEE-423F6F82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B858B-D81F-4484-BE0B-A449E067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038CE-77DC-47E4-86B3-151E7D1B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DF48E-7EEF-48C9-95F0-2E58B8B8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AF41A-6283-42B5-B892-0891A034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A8970-4DB3-405A-BA12-0B22C7AD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98477-43FC-4C76-9CEC-1F3274BD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CE3DE-6F94-447D-94FE-D6863F21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C39F3-A7CF-447D-95FB-CBD3F826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16284-F337-4A30-A1A7-53D5C1DD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DD8BA-56CB-4CB9-A3B1-230FBFFC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482-20A0-4A81-9E4E-8C215B67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27D07-BD5A-43F2-8DD1-B1989F13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C2FD8-4766-4D25-8C93-3E4B980C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634BD-2180-47FD-BB8C-702407C4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E2F3D-BDC6-42A0-BA5E-9BBFEEF8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EE388-B1FF-4EED-9390-7F52C96E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0601D-D95A-420F-B85F-D59FD073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7E47D-BF62-4C7E-AEED-473CB8B8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F1914-2096-4B59-B5EA-D9DAFD19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C0C2A-7218-406D-B811-360A3076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16631-263E-4643-A18F-230049A9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4B6-16D0-4959-947B-6C6FB0E0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8843B-825B-4F8F-B59E-2BEE7FD9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CF1D6-D81E-479E-B389-1F17E4C2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685E8-AB24-4396-ADEB-25BF3B25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9FB54-A6E5-4B3E-9ADB-B46F7DFA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79289-0AE6-45B1-A9E3-CC6DE7BC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C457A-319B-4F42-9F76-09D78D69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0FD73-6C65-4FA4-A285-52012600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E57C3-36E8-4171-B7A7-2F3BC937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BAF29-C3D0-44D9-95ED-1DF20558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ED478-EEC2-4A3F-AFF4-FAA6F35B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C02-273F-40B6-9615-3BCFDB7A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CB324-61B4-4DE4-BE4D-7AF8A82F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C9BAB-89DC-4B5A-AD9A-7DDBF740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1B4AF-2C94-43EE-AD63-EC40E6B9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49716-9271-49CD-8A16-AA06D90A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A423D-66D6-425B-9450-E54CE33A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34DAA-5822-4F5F-9AEC-646F7281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32C5F-83DE-446A-AF46-4939A34F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09221-6DB3-4A26-B729-EA271C60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4E1BE-E14E-487F-9E62-385FCE75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18A84-A75D-4C90-BE4B-DFE8F4C7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F65A-30C7-4D2C-9385-756B7E824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12E0-1DBF-4AC3-ADD7-3075F0589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FD2F-DEBB-4FA6-8F3D-08E4B45E5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712F-985E-439F-B59D-EF5479CF6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8C9E-8E4F-4C77-AF74-05EB70A84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1005-F431-4A38-A64F-7CFFED76E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30CC-37FD-46B3-9793-D1D5DAE06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C7C0-A385-4991-976F-ACD290CC0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132E-A0A0-456C-A489-91A641287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EDDB-81D8-4EE7-9E1E-4C5B4481C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2FD7-7F6C-483C-88C8-129402664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89F3-0172-4AD7-9233-9D353E857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e Laser Mode Swee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838080" y="2286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et of 10 slides illustrate how the longitudinal modes of a typical 8-10 mW HeNe laser sweep or cycle through the neon gain curve as the laser warms up and the cavity length increases due to thermal expan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Box 4"/>
          <p:cNvSpPr/>
          <p:nvPr/>
        </p:nvSpPr>
        <p:spPr>
          <a:xfrm>
            <a:off x="914400" y="1371600"/>
            <a:ext cx="7696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 mm (~16 Inch) Cavity Lengt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5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's Laser FAQ (http://www.repairfaq.org/sam/lasersam.htm) Copyright © 1994-2010, Samuel M. Goldwasser,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6" name="Object 5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Object 0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Object 3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" name="Object 3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Object 4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Object 3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vity Modes and Lasing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ity modes that fall within the region of the neon gain curve which is greater than the lasing threshold (net gain &gt; 1) will result laser oscillation and a lasing mode with an output power approximately proportional to its amplitude compared to the lasing thresh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the longitudinal modes of the la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tal output power of the laser is equal to the sum of all the longitudinal m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 Swe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cavity length increases due to thermal expansion, the wavelengths of the cavity modes (and longitudinal modes) increase (moving to the lef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cavity mode passes the point on the left (longer wavelengths) where the gain becomes less than 1, a new mode will eventually appear on the right to replac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a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acent longitudinal modes in random polarized HeNe lasers are usually orthogonally polarized with respect to an orientation determined by the laser tube construction.  These are denote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itudinal modes in a linearly polarized HeNe laser will all have the same polarization orientation but similar amplitudes for the same size la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 slide show to view mode sweep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028"/>
          <p:cNvSpPr/>
          <p:nvPr/>
        </p:nvSpPr>
        <p:spPr>
          <a:xfrm>
            <a:off x="838080" y="33526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 and right arrows may be used to change mode sweep spee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Object 3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Object 4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Object 4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Object 5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2:42:28Z</dcterms:created>
  <dc:creator>Sam Goldwasser</dc:creator>
  <dc:description/>
  <dc:language>en-US</dc:language>
  <cp:lastModifiedBy>sam</cp:lastModifiedBy>
  <dcterms:modified xsi:type="dcterms:W3CDTF">2010-07-06T00:37:26Z</dcterms:modified>
  <cp:revision>13</cp:revision>
  <dc:subject/>
  <dc:title>PowerPoint Presentation</dc:title>
</cp:coreProperties>
</file>