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8ED-B2D2-416B-B757-A42B6BE8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0CB-F859-4E26-9954-A334B63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97C8B-6708-4E7D-8ACC-024EAB71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28D7-FC46-4E54-975B-2137CE8C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BD5C3-8C05-4BFC-80E6-083B12C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40D1-0ACC-4CDE-A430-EF6F4D8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9C6E4-D583-45CB-A7C3-521CC9B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0430F-4CF2-4419-BBFF-30BBC6A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87291-ABE1-448A-98DD-EB5A3F1E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4B849-D75F-4168-8A84-BF653EC6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F3AAF-57A8-41F5-BD0B-10C2B426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161DB-57A4-4E66-BA7F-111DAF31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AA5-20F1-4562-9A2A-AEB0CCA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E8099-2549-453A-BAF8-33F7B980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16FA0-6B18-4254-95FC-9F66719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74B6A-7EC7-4E1F-8159-12250BD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34C0E-0276-448A-9982-D52DC98A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F117C-EC22-4025-802D-55906E12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A5D86-9D62-49A8-86A2-3B60688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524D8-06C9-4AEF-809F-6467EC4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62235-EF5B-4B1C-8C61-9F1C7064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26CA6-6CB3-49DF-92F5-EFFEB96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1BC2B-E86E-48F9-8659-D87D542D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19A-1E7E-45F9-BE9A-AB16E194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4E989-6261-4915-9947-F240BE8B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1026-A0AB-43BE-893A-5292D96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489-12BD-4D0D-B19C-1A4A62A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8DD-DDD7-48F3-8BFD-504B6EB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211E-8617-418A-B9F6-6469780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CA64-159F-4773-8499-F96494A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6197-4260-43F1-B2F2-B99C67D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280C-B1F8-46EB-8BA4-D984167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6D7-19D0-4EEE-B4BE-67D1284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251-B573-4035-9315-437328F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69A-2326-4697-8AE8-8531C39E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B9F-70E6-49B0-970F-99521FC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A4B-E96E-4BD2-8F16-08F74E0B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9C0-8B7E-470A-BC5A-D0B434BB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4BA8-9434-4E39-8D70-C05C4ACC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D4F9-2EDA-4605-930E-E083C78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270B-D537-4636-A6F8-A4692A51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4614-DFE2-4450-A3E6-D79141E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DF0C-FA58-4AF4-BE92-6E79998C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3E7-E58D-48F4-BD51-96F75CB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E510-C252-4B90-82FD-502EC31C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065D-B9F9-44E1-B435-D8F51F4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0DDB-5263-4979-B227-4E3F28C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7257-95FE-424F-9EA0-48D7F27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1940-4899-48B3-802C-5E1A4F2B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3151-1134-4F7D-8133-B538D1CF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7AEF-5E11-4980-82F3-5996F03B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54F0-519E-44B4-98E4-7DC6BE7D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8DE6-8232-41A0-939B-EB46156C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19A1-701B-43D5-AA6D-B846A7FD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AF0-3084-4CD4-9AA0-E9BA14A9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BF64-BC4A-48E2-8578-86EAAA0A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9906-6216-4234-9F93-847EA0D1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28AB-A72C-4151-855C-1CC09C64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4672-A7A0-4C89-A77C-37A84463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9AAF-2526-4934-B204-61CE09A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25C3-BB6E-4D1A-BD39-6727EBB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B6B1-D4D2-46B0-90F2-6A9A5DB6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2BD6-8EA7-4345-9DD6-23E8C429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71E6-1C37-4EB3-8BFC-7CBED98B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3B96-9933-4A95-ABD0-E592B74B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322-A67F-48BF-84ED-D2E08286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312B-C55D-485A-8389-CB570496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AEA6-1341-4A6A-B004-5EE7171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01DF-24AE-4401-85EE-EAF97FFA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06EE-6D7F-4CE8-B562-5D83D70F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05184-0904-4ECF-A730-18D9914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80988-5C8C-440D-9F01-A352720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18D8-E3C3-4AFF-BDF6-CAF82CD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7351-5A2A-4907-B7BA-9B8DE2B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A937-260F-4EC7-B248-DA70B259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CEEF-373E-40D2-97B1-78962AFC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F21-FE0D-47D7-BBA9-4D6CEFD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915A-A4FC-4A0F-813E-5C47AF72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0C9C-D91F-4E16-8962-780D6960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86D0-E35A-4277-B7B0-C6FFBA3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903E0-2691-4007-9EA0-561B550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DA07-2990-4057-897F-EDC6BD7C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46587-7FE9-4CE2-AA95-6508EAD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D697-A7A3-4EB1-B08B-BD88B689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E57C4-0046-4625-A505-26222D8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D38F-C709-41E3-9913-278373B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8608-9A31-4523-8804-1830301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493-379F-4DA4-A8C1-09C8E42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44AD-312F-4F75-8563-89C8A549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F213-96E5-4AEE-A700-B1BD2950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B835-3681-49E2-89B4-C70479CE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6B68-F678-4405-A55A-E9EBE5AC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A5581-EFDC-4C45-889B-D5B3005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1796-004D-438E-B8F2-BA2C6AA1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7F51-0F78-47A6-A4D0-2C67AE6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96580-41E3-4CA1-B4E6-CDC3C7C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1DED-6727-4266-A1E7-5EAB30E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E6AB-F3D7-4C9F-8B59-B085931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E4F-17A4-4EB0-BBBA-86CFDD2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4368-D945-4F2A-B3AD-8425819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6FC9-5553-4985-A443-654352D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D9F0-F0DC-4A0B-B99B-F9382DC4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4A51-FABB-42CE-AB30-12AAE9B9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7086-B49A-4C47-83BA-8ED0AB15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5417-A374-4D1A-B323-1E3A5A9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FAA65-FCF0-4FBB-8A26-F84393EF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8C30F-A77E-429D-82A6-FA1F418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FDAE-5ED8-44C3-AECB-17ECD12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89A96-3468-41CB-AC96-92A5AA88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444-9493-43C2-9607-EF1FD1A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4129-FDEE-4103-AE36-EAC6CF2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82727-627A-484B-BAC5-6C55BBF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FCD2D-31AF-477E-B701-F7119D3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9465-6F5B-4344-8648-273D40B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DABC6-B63E-496F-AF32-51705D4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BEC91-ED26-46FE-8D3D-A8BC449E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BC46-6420-48FA-A11B-FA5FF573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2E4A1-CD4B-4062-A3D1-D68DC2D3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2B822-C8B1-47C9-A27B-7CFB7F99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C909-75F8-4111-8C07-3F0C138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C80-88B6-4AAE-9DE2-B9E5D996F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5AA5-DF47-42A3-B05B-288758050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5CE-1924-431C-B67F-D7370B747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5C67-F3E9-4913-A046-F62CAA35B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52D1-50B4-46AD-8951-6AEE8A18D3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0D1-7E3A-4CF2-AC92-D89CB66BF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C61-C7A0-4F0C-B4C1-1FE2B4F9A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FDD-1E5B-466B-BFA0-A62D446A8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20A-4AB2-4B04-90BA-856BC1EDC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BE4A-1CE8-4358-B553-558D673F7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A17-5865-4186-9223-92D5A2481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7592-A733-4D4F-8F89-51AF2E919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128-DDEA-40F0-A772-A8A671126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377-A924-40A9-918F-12636C135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EF92-6F98-4F8E-B1E1-81FC4E8EA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8F6-03B0-45B3-8D69-D77432E95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217-B984-4CE0-A78F-FADDEFF53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484-D5F4-4819-83F1-87FAE681B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B2B-FBAE-4E5A-B0B7-43D6EF719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09BF-A993-4F48-92B5-0B60E152D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20 slides illustrate how the longitudinal modes of a typical  2-3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mm (~8 Inch) Cavity Leng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C:\LASERS\DIAGRAMS\henemsm4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C:\LASERS\DIAGRAMS\henemsm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C:\LASERS\DIAGRAMS\henemsm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C:\LASERS\DIAGRAMS\henemsm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C:\LASERS\DIAGRAMS\henemsm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:\LASERS\DIAGRAMS\henemsm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ooter Placeholder 1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C:\LASERS\DIAGRAMS\henemsm10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C:\LASERS\DIAGRAMS\henemsm1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C:\LASERS\DIAGRAMS\henemsm1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C:\LASERS\DIAGRAMS\henemsm1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C:\LASERS\DIAGRAMS\henemsm14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C:\LASERS\DIAGRAMS\henemsm1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C:\LASERS\DIAGRAMS\henemsm1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C:\LASERS\DIAGRAMS\henemsm1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C:\LASERS\DIAGRAMS\henemsm18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C:\LASERS\DIAGRAMS\henemsm1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fairly short HeNe laser, at most 3 modes are oscillating at any given time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ne mode is approximately centered on the neon gain curve, the other two modes will have the orthogonal polarization and can be block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1028"/>
          <p:cNvSpPr/>
          <p:nvPr/>
        </p:nvSpPr>
        <p:spPr>
          <a:xfrm>
            <a:off x="838080" y="29718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Left and right arrows may be used to change mode sweep speed or to simulate the feedback control of a stabilized HeNe laser by centering one mode on the neon gain curve or by balancing two modes on either side of the neon gain cur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C:\LASERS\DIAGRAMS\henemsm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C:\LASERS\DIAGRAMS\henemsm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C:\LASERS\DIAGRAMS\henemsm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C:\LASERS\DIAGRAMS\henemsm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7:44:55Z</dcterms:created>
  <dc:creator>sam</dc:creator>
  <dc:description/>
  <dc:language>en-US</dc:language>
  <cp:lastModifiedBy>sam</cp:lastModifiedBy>
  <dcterms:modified xsi:type="dcterms:W3CDTF">2010-07-06T00:36:16Z</dcterms:modified>
  <cp:revision>38</cp:revision>
  <dc:subject/>
  <dc:title>Slide 1</dc:title>
</cp:coreProperties>
</file>